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3447-1F06-4A9E-BDBC-009ACC5DB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291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CD5E-C59C-482A-97F0-47209265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291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291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D0F5-DEA5-4A11-BE2D-BEAA71FD3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762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762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291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291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291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76E9-92A5-4F21-9792-C3C7629E7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A49D-45B1-48C0-9209-219DE0F3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5F4E-D301-4F11-98E7-A50B9793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9401-0A87-4FB0-B1AD-0D638F4C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FCF6-B4CF-4F0F-A023-EFFC660B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3674-ECF3-417B-A21E-61FC3949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291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9249-DB40-4308-967D-DD4794AE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291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E140-9E4A-4346-8472-F02AB692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291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CF2C-45E5-4500-A735-2D78BD03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CC4C-E1A6-4850-8304-AC9E19821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Prayer of Adoration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O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ll your children are writt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on your hands: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 are a moth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o neither forge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nor forsakes her ow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ll creation is hel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in your very 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See Isaiah 49:15-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efore we were born, you knew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our mothers’ womb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 formed us.</a:t>
            </a:r>
            <a:r>
              <a:rPr b="0" lang="en-AU" sz="36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66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ll creation is hel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in your very 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bbe0e3"/>
                </a:solidFill>
                <a:latin typeface="Arial"/>
              </a:rPr>
              <a:t>Psalm 139: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Before all beginning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you called us b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Beyond all endings,</a:t>
            </a: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you will remember us in you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All creation is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within your very 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bbe0e3"/>
                </a:solidFill>
                <a:latin typeface="Arial"/>
              </a:rPr>
              <a:t>Psalm 139: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, O Wisdom, do not forg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r childr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ike a hen, you gather your chicks.</a:t>
            </a:r>
            <a:r>
              <a:rPr b="0" lang="en-AU" sz="3600" spc="-1" strike="noStrike">
                <a:solidFill>
                  <a:srgbClr val="66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ll creation is hel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in your very 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See Matthew 23:37; Luke 13: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3:27:00Z</dcterms:created>
  <dc:creator>Anon Anon</dc:creator>
  <dc:description/>
  <dc:language>en-US</dc:language>
  <cp:lastModifiedBy>Anon Anon</cp:lastModifiedBy>
  <dcterms:modified xsi:type="dcterms:W3CDTF">2005-08-09T05:06:22Z</dcterms:modified>
  <cp:revision>11</cp:revision>
  <dc:subject/>
  <dc:title>Prayer of Adoration (SLD-2)</dc:title>
</cp:coreProperties>
</file>